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5428-93A0-4D7C-BBE3-284324383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8A1-2D6C-4F88-9345-2DD5AC82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948-C2D9-4E49-84CF-49C3631A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ACA4D-5BF6-428A-8F1F-2B00D85B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DF6FF-DA8D-47E9-8E70-036E0302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4FC53-0238-4695-A8FF-02A245E6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24D9A-85EA-47C0-AC10-CA8C220B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28F6E-D27D-4E0C-946D-CA6B0D43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5EF9D-ED9B-4583-8F99-95F52F05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F19E2-65E3-4538-9187-83790B9A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32B22-52E7-441C-A9AB-2A2DF61C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897BD-3CC8-4214-A35D-4A8E910A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7920A-0739-4E68-9C1C-D7909BDB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A57-041E-4563-BAFB-B17F393E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7A203-6444-414A-817A-CE6FABB6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7F05B-34A6-428A-8B22-3B42698B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E96B0-9A76-4955-B851-D18C698D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A2FAD-245B-44E2-9E5B-A8761EEE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DD2BE-37FA-4DB8-A636-DDD9E04D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4DA4B-ADA4-44AD-8EBA-A85F2267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B9E2A-2762-40B6-9104-B5FA7AA3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8C9B1-4623-47A8-A8B3-6E082258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CE18A-B8DE-49D7-9447-297CD13C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DC0BF-013B-4934-B268-ED8C68AA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E21-5AA9-4DFC-BCAB-442DF929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0F02B-2933-470F-A4CC-581DEF76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903EA-5E16-4777-BA9F-4F1616CF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43690-91B3-4D2A-A590-A9D75E43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1A87F-F644-44C4-8EBD-525170B9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D1A7E-7D6F-46DB-B231-A1A7012B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21E0F-2ED4-41C5-B874-4509B359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E1F32-9B52-4739-B9C2-780005E0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F4639-1F42-4B4A-BE1A-26061BA3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218C2-19CD-46E7-94DD-966BDDB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D263B-794F-4CD9-A02D-09A1E714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AB16-0B37-43EF-A2B9-61E97BDD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59C7F-7210-4874-A956-827D5D19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C4FC7-DDDD-498D-ADBD-0F68F841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757A6-C2B3-4ED8-88CC-81495053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EBD36-375F-4729-9603-3E16ACE9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ED985-5954-431A-9FFE-79619A92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8701B-1C69-4DD2-826D-99A2E5DD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4AF07-A068-452E-ACA6-AA05D364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BFB77-E2A7-48FD-9129-4DA0BBC5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5190F-0143-401E-8A41-3232E414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4B85F-8F8B-41DB-8EEC-B952AB07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6031-D547-4034-BD76-B78E63CB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F1EEA-3F4B-4A68-BB27-C2B73F91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88E67-169E-4EBB-A100-A7DAED1F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43E8C-88E2-4765-B461-4BF3340D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C99E4-DD13-42E5-98D4-331C228A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D3B42-A632-45DB-A0DC-2224D033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FF1E3-38ED-4225-AC73-61A77FA3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372FB-DF3F-4DA6-A585-9AA88FAA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EF574-AE41-46CC-99B6-785761A1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3FB94-3F4F-49B2-AC1C-F28A5D36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2C192-EFE9-4CA5-B0D8-64808809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06EE-2275-4B0B-88EF-EAC99F35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93F4B-A1F8-457E-9A77-F5FD85E4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569A4-BFD6-4474-86D8-D55BE7C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EC893-BA58-421C-A791-30057037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4ACA8-E9F2-415B-864E-752264B4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7D2FB-1455-4B45-896E-DB3895A3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52827-D471-4305-BAEF-5BEFD267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3CD55-9DA3-45DA-A284-8693F9EF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77CD5-9944-4C1B-91EB-ECDF5E9B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CD8AA-8E54-4FEE-909C-422F9E0F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67436-2DA5-4116-A2AE-D97DEB2E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CCE5-F922-42DE-B50D-9EAD6862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BA3EB-D851-4536-B2F2-2ADEAE99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E0ECD-AC91-4630-BCA7-DC2EDE91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5423E-23ED-40CC-9E36-1B9548A3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A73A97-37B5-41B6-B3C8-ED62BC1B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987CB-F23E-437B-AFBC-1AE0CD8A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03387-6860-49AC-B0C2-F94E39B1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F78E4C-41B1-4735-8EB2-EE17F8EC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9FA02-22E8-42A1-B822-66F2D166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51A0C-DC42-4CC8-90CA-C0D80C72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978B31-669C-4EF8-9612-E06523F5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67F0-FDB2-4AC8-A312-AE5E77DF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6BE6B4-C235-4DC9-85F6-BB179C35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AE6B25-BDA6-4BD9-849E-81159F78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1629B-BD2D-4A2A-9835-3BA37702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2A058-5B9F-463E-9695-AD5CADAE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28D11-70B7-48A6-8FE8-3FAE289D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F8856-B01E-4A7D-90E1-5223F38C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D693D-AF34-4E4F-BCB6-6FC0D7A4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BFD83-AF46-449B-8B41-34C61791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E9DFB-AB48-4D26-9F31-DCB5291A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B4ACED-4DF8-4DDA-8FC6-079C1DFE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6AEB-FD31-4516-9D0F-FECAD369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AF40B0-9E13-4ECC-896D-8399E14A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12E40-00B9-4A91-A290-FFA3679D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DA8A9-0DA9-4EC2-B970-9757D908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1AAE93-3F0E-4AF4-845B-F10B2867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93E9B4-04D5-4F26-B910-836A37E5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CAABD-0CC0-4148-91BE-423024C4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40DBD-54BF-4760-ABA4-FDA2BB2E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52F1D-6C09-4C40-9F10-066DC31D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2EF6F-4CF8-47AF-8CEE-CB6A9662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87966-F116-4F6F-AE6B-82DB0603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4C16-068E-43C3-B33D-5F1DCD1B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EA6B1-BF27-48E0-A2C0-8267F1C3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6D268-A438-4897-BA18-7ED2EA4A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3EAB47-B5F5-49AB-92C6-0818F103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9B4D1B-2BFA-4867-B3E1-1819AF79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2B5D54-FA66-4966-9003-38D2D36E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EC2BAC-534E-4927-9770-F517295C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3D0650-34FA-49A6-9195-9725FB1E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5ADC0-5D69-4E5A-9F31-797FEEDD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B85FA-9839-46AD-9421-B77D0CC7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4C0FED-57CE-46AF-8419-59D2C0B2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621-4EE7-428A-9261-E13E00A4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1857-AF05-4C42-9789-B6DD495A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B83894-8FDC-4AED-BF0A-2B8799E2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A5E1B0-F146-45C5-BCE7-FA68E7BB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5F9C46-F237-482E-ABFA-1C86F106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6B261-3692-4C8D-938F-8395BD34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02BC79-75F1-412A-8D77-B7F93A9B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B42336-0027-45B3-8FDD-94CDD632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7BC1C2-9857-439F-B63B-92C08AD0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8B6CEE-5783-4DDE-BF93-EA556AB1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CC4BC3-21B4-475E-888B-6F393990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25CF5-64AE-4EC0-9292-C0E737B0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9D4D-E7DA-4E5B-B860-053224C1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43CF73-3556-4FEA-B1A2-667EDD6C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FA4BD2-8BF9-4EB2-BA75-076B5EDF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B363D9-06EE-429F-8BEB-AA247CE4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F8D6B4-7428-4E29-9B2F-546FE98F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A87A78-ED6D-4F00-86CA-2A3C8B1A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C58D4F-3C5F-4001-8043-75B3B055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94C760-89D9-4E2C-B4EB-7239FF22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2E2C83-6C99-4ECF-A679-63AE1D45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76FE79-DFEC-47C3-9284-CFCC17B4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78E87C-F20A-4B28-B70A-AB666DD2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7461-707C-465B-9AFE-604A9A4F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CB537A-2F51-4637-B8CC-696A1A3C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C280A-8F8F-4501-9D8D-22CC03A3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718EC4-22BA-471B-AE6B-68D75813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2A5C3E-B770-4D87-8DB4-C0972738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C2F60F-A9CF-4150-912A-C6B12787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9B12CF-E81A-4369-88FF-C62B76BB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2DA17C-91CE-4699-803B-B053087C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647B21-3FC2-4B0C-9E8F-9E46D2EB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DD5A3-83DA-4A93-8EED-9468E161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05BF2F-BC27-4517-BF4B-8FCFD12A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ABBA-D51A-4078-9DF9-993B3EE0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6AA286-3726-4B2C-81F8-B5776673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A55640-DC5C-48FE-96C9-072A36AE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E9B8A0-875F-4544-9C23-CB99F0C0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D9C88-EE4B-4AAB-A0A7-4AB67B77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325091-E78C-43B8-8077-A43DE6A5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4827FF-6EEC-495D-935E-C2B125F2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E5A12-4D67-4819-BF61-FAC302CB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5A24C2-BF05-4288-813D-2C64F80D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A6F041-870C-49DE-9609-1BFC0B25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772E79-D99E-49DE-BF6A-D25AE259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6796-A431-4CE0-8D45-2906087C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79E687-05A4-484E-A3B7-F9191E39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B449B3-0916-4020-B261-E7F870B9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E878CB-8BA3-4A66-90A9-CC557FD4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FA94D1-E14F-40FD-962D-4AAFE933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B1FA20-E920-4B1B-B9CC-0D606EA9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013CF5-DB08-4EF4-883F-EB676A49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50BAE5-42CA-4552-99FC-00431112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6F52FA-A4D0-4D53-AFA5-B99D3094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AB7155-9780-4561-8786-1DE23AB2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A641E0-A669-4AC8-8637-D5314783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F5235-F595-4604-BAC3-9F2E143F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E3A72-AE51-4BDF-BBAF-2ACEC63A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0D36FA-7201-4CAA-9DEE-A780FE3B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FDF801-985E-497B-95C4-8DD4B847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F5AFE3-DAE7-4A6E-B0D4-5D86C0DA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7E2439-F2ED-4007-B942-981F7AC0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5B7279-C028-4E03-B08A-6AF09803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B1E1A1-5EF9-4677-93A0-A51E2010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7FA2F9-F14F-4016-973B-527CE72E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F22EA9-96C4-4143-9BC7-F3127FF0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980048-3595-4C24-9167-C0474621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C1A3-D547-4D16-83DE-CC732D11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840CBC-F89E-4E24-A93A-3179545E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ABF7BD-6A62-4D4E-8FB4-F9F9E5C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4AE607-8E23-40AF-96C1-9180AC17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2E9EF2-AB1C-4F38-A5D6-18BCADB2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72FDF5-AA33-4E73-A96E-9639838C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A82A09-E8B6-4361-B23C-F6AE8EA3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3239F0-DA05-43B3-B11A-898B2160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CC3B70-11E2-41CC-95E4-0B877B29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EF4F65-0C05-4A56-B267-69856E00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583EAC-4EB8-4661-9284-A06E50FB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246B8-2E1F-434D-B4D3-482075ED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861A0E-8ADC-4E09-9068-C843C260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290BDD-6045-4C83-B413-124EFDFC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0A0158-3E2F-466E-A847-34797217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97E7D4-D28B-4415-B48E-DF75D1E3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37B079-35FD-4EDB-8F13-B4DAE926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93C829-A8F3-4F90-92CC-AE607A0E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44D3A0-D492-41D3-AD5F-B52E866B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7F81D4-812A-4627-A229-8D035981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69092A-527D-45C9-9923-4960B545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3E3316-0389-48B5-9900-8982B058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5B39C-2DB2-44E4-B030-81CBCBE7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AF6422-1114-499B-9F16-FDF0F377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06A9B0-20AC-465D-A9BB-8C76B2C3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C3F0BF-534C-420C-8563-0A570317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8B727B-EB00-43D6-8E64-1EB8AFE1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56600D-018E-4203-8D9D-CD587EF1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511097-85C3-4B16-B020-24912217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36AFD4-E7E7-48FD-AEDB-884806C4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60F9D7-C439-4492-A24D-70F335F5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43644F-8DAD-4778-ACB2-3B32708B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671F3B-78B4-4F82-9D92-517ACCF1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87F9-A095-4865-9EE4-33C603D0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25F96E-6D2F-4E56-9FF6-19DC791D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4D1EC7-DE89-4650-9D56-3AD48B5E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E80B34-B15A-46B2-ABBD-7E18CC0C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51BD2F-7942-4AD1-8802-4A7C3C4B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1DE12F-561B-4ACE-AA28-2EF3F230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F78BAE-CA52-4FE0-BC92-3423EDCD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E87190-F864-4290-BB3C-987A5B0B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26C88B-8493-41F4-BC7A-F251607C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F34368-B68B-47DD-A476-248AE8FE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C42484-07D8-42F9-9A8E-9336E74A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E7E-C242-45CD-8885-64666FE0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12D96-AF92-43DE-AAB2-1823EE4F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683A8A-A7DC-40A7-8962-BED1034A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510B94-5310-4C7B-9301-F3EABEAC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C1386B-1F46-40C8-99EA-90347654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4AE84B-9B39-4760-A0A3-C419FCF1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FC2EEB-0F3B-4548-8D6E-93E478C8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0E190E-810D-45A7-BE4B-1ADB556E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67BB77-0089-4DEF-87EC-65A97379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D20791-A54F-4D75-9510-1F03E77B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D1AB86-D841-4C00-A138-DF4BE12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261D8B-73A7-42BF-BEE4-63C1943D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AAF5E-AAD7-40EF-B659-DCC6C134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E7FCC3-7CF6-4E56-B43E-159A7BEC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D06B39-126C-4CC0-A44E-D60050D1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4D64D7-1C16-45D4-9C6B-044823F8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AFEEFA-0C43-4D04-B796-8CBE0CA0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B7F358-6D8F-4664-8146-B8BE1950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C18600-1CFC-4BBD-86A3-C8C96FCA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7BA92F-7886-416A-94AD-C3F8BF73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783923-C3AD-4769-BFC8-6F5F0F0C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223736-A425-4AFB-B6E6-F4C8842F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DDC8EB-E2E5-4127-A75C-D9057ADE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4F820-10DA-4F22-979B-C2BB4664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E1EA2E-0EFD-4164-9054-5FB6E8BF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768D60-86BF-4432-AE40-1FECF51D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A0471C-B97A-4BC5-AB89-9FA9223E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B551BD-B306-4CAA-AD91-AC7590DB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A8D104-6068-4438-A815-11F9D146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73D65C-082B-4E48-9E5C-A6C6FB93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DEA2FC-7E05-440A-ACDC-7254B5A0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575205-206C-41A7-BE71-E49613E7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61982F-A1A4-4A5D-9924-6A5B3E19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AEA4AE-25C6-4040-AB1A-8CD69798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0B80F-F81B-47CE-B39A-7110BFE6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68A7E5-BA30-45D0-8A8B-41A8C8B4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03D445-37D6-4EF7-8BD6-9AC89508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0DC21E-4EF1-407D-BFC8-BB325883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57E301-9F2A-4D78-A017-F150ECC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46449E-E248-4B6A-BD66-471F1C92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0B040D-F991-471E-BD08-E51C3127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E76BFC-BA0F-4C3C-BB8E-01C5A065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3F96C02-B5E5-44B0-86C4-B4437D8B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D447B5B-6593-482C-BF16-2E9B6FBF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49AA56A-4A67-4104-9367-AEBCB6D2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34FC-6705-4364-B642-548A30A7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B82DDFB-6950-4F0D-BA5F-5C1E3CAF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878DF74-D883-4E63-A876-1B8F7008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341F580-A6F8-4960-8D51-90BF870C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CA4F408-1604-4BD8-955D-B84B42AD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F0C9654-47B9-4365-845E-7DEF1AAA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F2DCF8E-8009-43B7-ADE2-C5FEA5B7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A48D03C-D266-42A5-94CA-82CAEFD2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A85EFC7-35CE-433A-9821-739929D1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26ED5D4-D4A1-47E5-BDBC-FD9BE7B4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64AFDA-CE52-44E2-9C50-C126BA8B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57761-15F2-4739-AF1A-D997D996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61EFF0-E643-4765-81AD-344A3A2C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BA3E41-102A-4E63-B01F-78ED31ED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F4ACFC-5E25-4353-B16E-09879691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689BEB-1318-4619-85F2-60B42D61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E0130B-436B-44FA-ACED-543E0215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306D94-384C-441E-B624-C28750D1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3F5C8E-AD6A-4451-9593-A673BE3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FC8358-CBED-46B0-B3CC-FEB63745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6F030E-F280-4A8A-8709-129F2297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FD6BD3-E8C9-4CD1-8BDE-E7E2DEAE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29009-CCD4-4C2D-91B0-4123E839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6EB763-3A19-41EE-AB1D-5F772493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AC0F87-006B-4209-B468-3D3769E1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656373-AB03-44CC-8DE8-5E1D03BE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93E471-0A1B-484A-9106-843C6B74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18875D-A2A1-4DD7-A9EB-8B4F3E00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6ABCBE-3B92-4558-913F-7D1B4E35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639057-9C65-44A6-9D3E-D25AB2EF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66A4A6-DEE7-4257-93B7-3485C42E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873C88-755C-41EC-9C38-00F689EA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9FDB72-5A9A-4675-BB40-341818CF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372A2E-E04E-4083-A12A-2F9930FF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3A1A92-F822-48B4-9908-CAC32366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B32DFD-3605-4A69-A9A5-FE64CDDF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1A7E73-3F61-4F29-BD7C-67B24AF6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5B5CDA-A5EB-4B8B-8681-5ACBC122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9D2372-72A6-484E-9809-6D4E81D8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075D82-91A4-437D-9F2F-C4CF6EF8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266BE3-7B56-4397-A7D9-99F5DD39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B5D6DD-9409-4128-A38D-F8255414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740FB2-E70B-4154-99DB-24A16EE4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CC7CA5-3042-421D-B1A4-EE10DCDA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80460-B446-4BE3-8B05-8B02473D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CFB453-B852-48E8-B148-1296D6DC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191ABE-E20E-4A76-836A-6C849FF4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87BC94-4864-4523-9956-6FA93E5F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B52B7E-6B4A-4077-812F-8C8D80CC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2906A9-D554-43E3-A356-E9021C6F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0F1D87-8E3F-44E1-80C4-EF389F3B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D68D8D-3300-4325-AE62-D8C07243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309AF9-B9C9-4631-A25B-A86215FE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96155C-1463-4138-B3BA-99264617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24F118-67BB-410A-A44F-625811E9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C7DD9E-FA6E-46E6-B006-7B05E529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556930-AD2B-4C43-99AB-BB8055C5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F6B49A-6AF6-4A9E-93B3-AFD61DF6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1AAC98-1717-450B-B7BA-B5A25527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CCAB19-5D64-4F55-A746-C4D10A85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6DDE54-C876-4284-9216-4175EDEA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64513C-BB43-4308-AE00-8101CD02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50EA9B-59E5-483A-B206-56ECD96E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A9434B-43EC-4779-9B12-ACA24DFF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409201-FD96-4F17-B55C-06B74C16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D1E139-16CC-4C87-B0DB-DF2D2C82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675-FB6E-409A-9994-F41950E8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6D37E-5D55-4077-AB3E-8609B3AB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6A627B-6964-4A88-BE71-13328001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554691-5367-415A-ACCC-F4B71E93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933297-904A-4773-A5E9-60F635E2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6B9476-9A6A-4A9E-B598-D421677F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B5C271-2E31-4697-B42B-B0B0D695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FB605D-0AEA-42F2-B312-DF3F095F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6FACE0-B1D9-4299-8DFA-598FBD65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62FC5D-E15D-4BC7-82AD-10EFAD78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0C97F4-BE94-4CF4-9354-E046C186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3C93A52-A8AF-4819-A461-E512530B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B30DA-DB6C-4275-AD42-7EF0B867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78A9483-4797-4AD1-BBBB-80E03369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53B60C9-F37A-4AC7-BFC4-82B7ECB0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1530131-9C7C-4B38-AFF9-0E67C04D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9856E1D-61FB-4C2B-8C44-D0DE4FD3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C899829-B890-4F49-96D7-F6127EFE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61A2A4A-0238-4C34-A7C7-594FFC4A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D536F69-303E-44B7-A3D8-2AAC8A55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C3688D9-4B59-4875-AE80-FE2D9A36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3E267B9-5102-40D8-9911-C7994630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966B15D-EE02-448D-BC34-34454CDF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ED6C3-A414-4C7E-AED1-30C30158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DC810F2-E975-4931-A897-070E3D28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6CFC48-989B-4BDB-BE92-3DF7A20D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B79BC9-1D50-455D-8D60-1E14E0C3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F4EC5A-03EF-4773-B5D5-FD249750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D2707F-3FF4-4BF8-828F-DE987370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6FC65D-9A82-44E4-8A29-AB39ABEB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345317-8E19-43CB-8936-69A4FF5C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394B88-CF7C-4845-8652-688F7F08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E6E1D8-C338-4111-BF5D-0F4BAB08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5D7F86-82E8-492A-B9A7-E91D42C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69DB2-B63F-4FD8-88C9-0350F1A3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4E80B8-FE9F-4B1A-8854-B4361961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1601B8-00F7-42EB-BDA9-A043F9A1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93A06B-BF14-4FF2-BE2A-B34602E9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84C870-ECDB-4AA0-BE7E-A8F64D8D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7F9429-0E44-4D8C-AE22-609342DD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E1E81B-871A-4718-8E81-4074B813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7E63D7-7924-4925-8049-39BAFB33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87919FB-845D-4A1C-8A8A-A28EB2E4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CD5CF0-C990-4551-94CE-CCC6BF83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152A926-0A26-4367-BAEE-DD3D173B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5B9C15-D134-437C-AD76-BA483294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3BB00C-8276-40DD-BAD6-BE56E36B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59C161-4033-4F8B-9DB4-8A2D1B6A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BAFEEE-B43A-4172-9E1F-F67C2B6A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0F784D-1D69-45FC-8FF1-3007CD69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167485-B84A-47BD-A851-15BF9BF6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0A8C30-7AA3-46C9-9ADE-EDF24EB5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D3D4DEE-D455-4EAB-98BD-57824A04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4BC7F6-146B-434D-AA6A-E7E1A6CF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8EA5ABA-D333-4A6E-8907-DC70905A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C20F94-E831-4913-9D8F-9A5908CF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E5A81-2D04-4F33-8999-D7C40595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F67827-7D24-4E72-815F-B211E37A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63C44FB-AED1-4F0C-932B-C4586C80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051C53-314D-493E-9392-FB8F582B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6E4FC9-4E80-4823-BDBA-A6C4314B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B3939D-A929-44E9-97FE-4F88ADAE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B2ACCC2-0805-4596-9BDD-ECAD63A2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21AAFC1-85AB-4252-8A29-AF92D9E4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DFE3BE-3335-42A1-840B-F89614D8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166B6B-2D9F-496A-80A9-A21900CF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B0F6D5D-B149-4C5B-8FD5-84F64F83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39A12-60A3-49BF-B19B-20B6460C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861914-0259-4E14-9B27-940942B8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23026C9-3933-4251-B2CC-6703BE72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FA05F3D-63C5-4EFF-991B-5F9253C5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3DDBE78-B5F9-4348-B425-552F111B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C224C73-92C5-49EC-BADA-4ADCB792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76300F0-2CD3-43AE-BEFA-F626D366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4CCDF3-601A-42A4-9F3A-F7B5901E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5282FD2-00A4-4F94-969A-429BCCF5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961DC66-90FF-4542-9673-28F0DCF7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2C3D8F0-3D38-4609-9BBE-0770AA05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4CFE2-D61C-4424-8E95-CC6A3015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83192C2-8B13-44F2-BC71-230D6008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318023B-C4D8-4B7F-B69B-F495851B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220E493-3C64-4C70-86E2-BDE3D74E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F924A07-2FA5-4B38-994E-F16A53C3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938F98E-B927-4E71-9D12-4595A87B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CE84F8C-3F72-47D3-9A94-1C2992A3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E1FC097-EA13-4DE8-9531-66873DBF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544F8A4-4652-4FA2-81AA-8B95C389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C67A31-E58B-4F7F-8D08-404C88A5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54CF4EB-5121-4CA2-AD89-94F651C0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1BE8E-B597-4C19-82DC-77A6FBBD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02D2BE-A0E6-4C39-B4BD-09656F6B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D5650C7-D3F6-48B7-924C-37ECBAEB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8EF3DB-CFA8-4C8D-B1E6-4C0622EE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4A152D7-12D7-4210-AFE5-866F95A7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4AE87BB-D315-450C-AE17-175538A7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C207984-C6E6-4D48-852F-1FA39888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AFFF62-389A-4953-9AC9-331AE269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A0E9463-79D0-4575-A61B-C202B3E5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DE3D610-A9E4-4055-AB66-D3E3E1D1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D4F7F1D-C65B-4DD0-A46E-AE7E1BC4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83ECE-CB5B-45FE-AB7A-47119ACE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E749C60-778B-499B-8C46-07949969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2D9C0DB-C1FF-41E7-A32E-9B7E2598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F592A1-74A3-4290-BE20-4F8EFE4D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0A3C3F-51E0-4974-B23F-B5FFC0AD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C2AEB70-0594-4CFB-A49E-6A3B0928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324E7B-1963-4220-BC12-332A26E6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5F08793-097E-46A1-840B-BDDE938D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D8A0EF2-8838-476D-8886-2718F68B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B3B1E07-0F4A-4E7E-A02D-0833FC63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0CC5127-E3AE-427F-BB25-6C5D6D5D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EBD-3A62-446E-80D8-8A1C9BAE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18EE3-1826-4DAB-B91E-8B1E083B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5C81CD-5696-4A36-919B-63FB0656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2EE0BDC-916A-4D6B-B041-580EC01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05327A4-8C5A-4CE7-950E-152C840F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BF4A74-108D-45DD-AAB5-D1AAF69C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A9C7F6B-13F0-4021-83DA-08539C52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9CC235-21B9-4030-8C0C-23F2ED7D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C39D2D2-8D83-46BF-9527-E6E3ED21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A371772-A3FA-47E6-9D62-E39AC95E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88135E0-0A9A-4BC9-A7D2-37EE12BA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7AD6ABC-68D3-4727-82A8-A7D5955B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C9A52-BDB5-4D00-B9B1-48C194DB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C74E1D8-95FB-4816-9A70-7E6481EC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30BFC40-BA2D-4281-86EB-E65F5AC7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DA19CC0-6D36-4F46-B633-46FAF9D4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4AA1897-B9D8-49DE-B5EE-D8055636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A1DCA7-E1B0-4FE3-8780-F6795BD5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FFF311D-6A66-47EA-9E25-9BE25042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95345F1-2248-4662-BA34-C64AFC46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54D5A59-2F9E-4DC6-99B7-7DAF46AF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5DF35A-9C90-47F3-9580-7D561509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50C2276-7008-47B2-B97B-411603AA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3E1B0-01B2-448D-BCBF-7E3ECEBF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7A960F9-766B-4675-BAF2-067B6ADF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A444348-3F88-41EA-8F3B-48C1F4CD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34C5025-9F26-404E-9A88-6642174C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617519-0E43-4986-881A-78673B01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0D696B2-9A3D-4757-A045-666EC9AD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1B3442C-3887-425B-A600-0415C2E9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E2E1939-4921-41CF-9620-989510D4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0F582E1-A0D8-47BC-991D-3D4D5C2E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C4BB191-4571-41A5-926E-ADA8AD9D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7E9575E-E17D-4871-86A2-0BB6DCF6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3ACD0-B902-4803-B52A-0DB57ABB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6CA05FA-8C39-4197-8533-E3E9E5EB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06D380-0740-4AD4-AAC7-263DB612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DC45230-8B60-4373-8B4F-079094C7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280DEE7-185F-4294-974C-14D5BE16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BC0FEE0-A4F0-4598-9529-6A3D1229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923ADB-4083-46F9-8F49-30A9847C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BA7222-6053-4E11-BC04-F0E40FCF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EFFAA06-F38B-46BA-8660-A374EC0A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EC70688-54F4-40AE-996A-8039DC81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DBDF711-A88C-42C1-BEDE-F06FDA4C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C61B1-860D-4572-9664-0E879754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DF07145-669B-4BBC-8B5B-77326847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2610A05-BEA1-46A6-A7F8-6B51CEBA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3EC1CBE-AA23-4C73-B34C-886FEB30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8BD99A8-C353-49DE-9CB2-BB575D26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36273DE-7624-40E5-8E60-88E16444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E9E663F-B453-4106-9A11-AA6F9CEB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4BEEA3A-C215-4CDD-925A-35A0A52D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DF4EBA8-F0A9-4DAF-9CEB-75579725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2070307-1E6D-4A4F-A1D0-16C02265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637B688-AF5E-4962-AD64-97CD5AF3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AABA5-0B5A-4FCC-BE89-2F7B01C8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A001A1D-B563-4FA6-885B-C9129E2F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494913-7F00-450F-A35B-3024A53E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E055AB7-5CF8-4DF3-9D02-824152DB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8A23B6A-B3EA-40E3-9948-038658A2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372406F-8F0D-468C-9705-D62702F7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C43D776-0BB6-47A8-A20A-304A0444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DF65D8F-63CA-44BE-B42C-F7F39DDF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5E79C62-7C00-4B03-AD24-55D0A305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271EF3A-CEF3-4A7F-AE1D-4222A068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4F6B29D-A263-45DE-9FB6-2585E9EB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9CEEA-9AEC-4CA3-8D56-E78ECBC4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DE20CF6-BCE6-4612-860A-E6F6E66E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87DEE80-F2FA-4B05-9676-D20756CB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A0C8338-C50E-4C9D-BB64-8110A924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37F0251-5E7F-47D8-956B-C58AF40C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91B926F-F650-42F8-A1B5-ED71F8BE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2DBB8E-53E2-4C5C-B6EC-815CABA2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CF7C0CA-DC8B-4394-8BC0-178CA340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C7B4719-8950-4BDD-AEFF-C4FD987A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5B70215-2005-44E0-9C2F-FECC9E44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381E6FE-D136-45B8-BE1E-3025F5B0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18771-0464-4941-A115-B4F6B78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0F6BFE9-7B12-4258-92E1-96E23586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3D442C9-2753-4B66-80F0-9AC7A018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B31CE44-D2EB-4D3E-BFA4-75CA0105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3AF6A0-1A91-4382-AA57-8CEF47A1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B9C83F6-800D-49B8-8A6E-825B988A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8534864-39B9-4B93-B0B7-928E893D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DF59D7-8A91-48E8-B1ED-D5F4660B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29CC3C3-9A79-4727-84E7-5D6211BB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4E76672-A369-4C0A-8808-219E6EE6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6F76818-B942-435F-9DFE-84A3B113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43E2D-1603-4049-A475-C95CB9FA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B9C874-765F-4AFD-9E2B-847B92A8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781DCE3-66E7-46D3-8F41-A1C6A6F2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31BD109-4CC1-429D-959A-8CD41D1C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4DC6AB3-E0F9-4BD3-9BE5-01E2CBFC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357E540-8404-4BAB-BFC3-ADAD454A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FA029FE-E8B7-481C-B4C2-90A9B96E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BF7F064-EC05-47AF-81FE-E11FD459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DE021EF-4681-4FC9-A44F-9F5EB4CC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87BF0D7-30F4-42E4-8CF6-444EAC30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DC5EB72-BC92-483A-8949-5E23CCC9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4FC5A-CD4E-460F-9412-15AF377A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9524948-3B78-4E3A-980C-97402234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C98FE3B-38BE-4E8A-AD5C-BBD4DC31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8154DC3-211F-4C1C-BBFA-B6C7B2BF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AB3A18A-8B96-4FE8-8A3A-6E12BBF6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969724F-0015-4CF9-AF78-16DF7884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9A67B81-E5A5-41B4-B448-C9CF69A4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3FCB327-EB92-4459-AE60-53A85F2B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2A0992F-9FAD-4A6F-A10B-D82405A7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90D8092-E450-4B1E-9344-C44AC33A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36012BA-198E-40BA-A451-402AAC13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422-DEF8-4E26-9BBC-0AE8582F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44C06-C0FB-40A4-87F3-44E99183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D35A583-9B59-4D14-A4ED-9D11AEF1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A55E921-9E8B-4307-8930-5FA0535E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AD093E3-93EF-4F65-9157-80917F45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A50AE36-FD15-405A-B7AF-6614F793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88328EB-BC37-4682-8655-148A6159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A28B5EE-C9C2-479E-8DDC-FA1F1AC7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5F29E14-D967-4D1F-B908-0C287798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2E7D1D3-C19F-4731-A0A8-21B35C76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F82FE3E-3D73-46EE-AEDB-8F787631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AD30731-5219-4AE0-A8BF-254BA2CB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E0184-C818-4497-BCD0-EFBDA839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5DB5852-1ACC-415A-BAFD-D0F2D235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AFF79AF-B2F0-4E51-BA47-493C47A9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FCFC2D9-A546-4CD5-8F54-5F6CCAD0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BCDCF05-7BA4-40DB-8B4E-7D1E42DB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FEB8E9A-0773-4443-99EF-D6149E4B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2329E1E-B247-444A-9CB1-A086F7F1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88571C8-497C-4441-AF4D-032A166D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DA6CFB0-6FB7-40A0-9126-668F3B6D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31160AE-5CBF-46CB-827C-4671D90A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643E002-819F-477D-9582-A7DBF922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2E8A6-74D0-4455-A686-976D85DA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35A1D88-26F8-4F7A-B2E7-D6BBFEDA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10786D6-77EC-4E95-B3CC-9E6F0DFF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234E554-6305-4797-969B-CA7EBE4E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F611D35-3A72-4A7C-A9EE-DA98041A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D991651-4C96-4203-80C2-957BB684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C30BAC2-7AB7-4FCC-8429-D5AFBBA7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4AE0775-732C-4DAF-B415-411F493A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9B0B000-115E-4D79-9779-4A5FC378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BE4F4F3-C1D3-46BB-B29F-BFB15077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F2AFA7E-C5B8-4C77-A65B-590353A6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A3F73-A9D5-4D98-B0E1-0DE5A275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B4E48D7-DFE7-42D8-B0D9-78326E70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217D9C7-8E48-43B7-9B95-174EC7F7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7F83371-584A-45A8-84DB-157B6FBD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D94C65A-E949-4263-A969-EECF3E36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8A2D4E2-B9A8-4A04-817D-48EB7C7F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3B8A9BE-F3B2-4FC8-819A-B643F74B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D325DE4-5326-4CD0-962A-07C3D47C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94F80C6-4884-4753-A42F-84ADF524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67E2E21-783B-482E-9E24-55714DC5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F03B1FE-70FF-47E0-BA95-429BD48C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03477-85C7-4EA7-90E7-7D4D2C30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D028D7E-CD3E-4DF4-A8D9-2F2F9727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A7FF528-5FF0-4B55-872A-ACA9BA9B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A2255C4-85F2-4C89-B8F2-992E153D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C413337-7C4D-4110-95F9-48320125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AFA972D-96C7-4337-96A3-0BCA6270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B8CC328-3FA5-4B2A-A7DE-8A6C49B4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390F71B-BA70-484F-8809-10EE2B54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5D4942D-9FD4-4534-8EFD-72AFCC58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9183676-9792-42FC-9EE7-5C4DE36C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EEB34CF-EC28-4E48-89A3-0A37C40B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6A9EB-68FF-4031-A606-91B5CF35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9AACFFF-3880-4849-9B27-F19C0872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AA86FCF-0CFF-47FC-A527-91139631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FD2DDD6-02C9-4950-8D87-63E720BF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2A9BB52-7FF9-4377-A237-50BF9671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8550D01-C969-493D-ACB9-AFEC7D98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2DE6603-8C5A-4C32-85C9-C6351EA0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C4E1271-205A-4139-B4D5-746C8557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E8EBA3A-E6CD-42DC-B6B3-9B7AE76D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85FA002-7093-4907-A2B6-003B7E8A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438C19F-8560-4E29-B369-FDB5AD24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868DD-AD93-4E31-A26C-6514A3EF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5271597-5CF5-42E0-A701-4E6D6C4A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A3C5138-59EB-4BA3-948D-BB01B1D4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4C25923-8569-4A30-9F57-39FBE71C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6CFB809-3138-4B5D-A839-317E81D7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5DA5624-1090-4E8F-A1BB-7971C0B7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89D6510-C873-4795-9A2C-CF34E6BC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A5F610B-00A2-4257-8F8A-46624A11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5BC22F9-779F-4DEC-9793-37E14202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71CB64B-02F7-49A0-9CBB-965ABB84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1F9FBC7-01C1-4F9A-9970-90D5DCE3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C47C0-A52E-4D41-B58A-46B5AE75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18D5527-E19F-4213-83BF-5DA854D2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4397739-DD35-4D9B-A1A9-A8ABA5D8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2DAB969-4DDF-443B-8FA1-2A6F446F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361E7F4-943B-4514-BEE0-10F8F44C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D36419C-B68D-4297-9337-98911E5F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323C2ED-F822-447C-BA8B-A788DBBF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320F66E-E5FD-4B28-B59B-B93B46EF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FA25D71-E497-4403-8125-DB15762B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980461F-58EF-412A-B374-C115F547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510847D-0290-4271-8F9F-B18BB87F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76542-7482-42C9-9446-6DB4FF2D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465C737-4476-4992-BB90-6208884A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0ACA71F-7950-4261-BFC3-02A56181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46E12F0-21B6-4488-BCD5-AF89FBD8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79413A8-CB1E-46D3-811E-1FFCFEAA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E448255-0D9B-45BC-8399-88ED2011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4EF6F-854A-423B-960C-99CBDE8F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213-FFF1-4968-B07D-264B54DB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0E9CF-9671-4364-8553-E444357B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CF9E5-9BC4-482B-9F66-4A3B155F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7801A-A2B0-4D76-A030-5EB9731B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C74FA6-C340-41AE-AE55-BA6B151E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3991E-47F5-4BE6-AAF8-12B286E2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2FAD2-7ED6-46F3-9FC1-262EB216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5023A6-2CD0-484E-9D9A-1F981326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DA1866-A2B8-480A-95D0-C6101B8C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FB0EA-B0A5-47EB-BD02-F99D3302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63BA47-3BE6-44DD-ACF0-4362AF84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943-2CE9-4EA9-9B84-44F82B02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2DA66-3A13-40EB-93DE-5254C5E6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DB5182-CB8F-470F-A9CF-97FF1821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A1DD95-7654-4315-B19C-E04CC4A3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D9C096-C145-44B6-8BEE-312A406A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F592C-35C7-4692-8880-C081E179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EF09E-EA90-4687-8EF8-5F5A3812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821BE-313B-45DE-9D01-ED912431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B3DCA-F283-4ECE-B763-08680A63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52257-BED0-4DF0-A559-C45C82D0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20A8B-2BFB-4500-9C87-E825BFA4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CD5-726D-46C3-9030-54714B6D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51258-B342-4292-923D-0AE3A6F0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074EE-541C-44EE-B6EF-5E6A20FF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A1DB2-0B7B-49B3-B3A6-4D1493C4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82140-26D9-4A8D-A34D-1AABFDE0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AE768-DCE3-450F-B663-C7CAE6BA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62EC7-637D-4FD2-BDB1-98BEA1F6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B2AF6-59BE-4AF6-AC79-4A1331E9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00A88-54BB-4F7F-B931-5F8D4E51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45E0F-4E87-4851-AA43-08EE6EF2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1AACC-749D-45CF-A95D-87570BF0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EBDA-56BC-4627-82FE-34867A2C66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96F3-6FDD-42E6-920F-51170F0C7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CCEB-49B7-4A47-A349-3100EA4B32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C31F-410C-434D-B031-013F16F93A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3AFF-DC27-4ABE-8E02-C9773EE288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7550-8785-4987-B807-F9262F2606A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3CF0-D834-4ABF-8451-A887AA266F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77B2-8DBC-40FE-84DA-0B6019DD4D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015B-E7FC-4523-9C99-2E328A7C9B1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678A-A6B9-4EA2-B7D6-E07D332262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0BED-D40A-484E-94ED-66CE84D0F26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AF1B-20AE-41C0-AC80-D67F6820A2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D58D-B4F0-4796-9B0D-034BB26CB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6BAD-CF77-4035-9A7E-37ECBA2CE03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F48D-4726-407B-9235-A9B7CD556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8A9C-7956-4D58-A019-123A16302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9AC5-322A-4B0D-A6D0-DE03471C07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7570-8910-4AEC-9EA9-97E678A98D3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97F3-B124-4C49-9380-EADF97D7B5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0404-70D2-428F-9E57-12F24CDB77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4C06-3DE0-4BBF-AA54-9AC9506630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4A7E-F813-4F2B-BCC8-EE7B3168CA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45CE-0B85-4879-A84F-2191A0CC80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58A9-DEAC-4687-A08E-5B75379583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6BA9-4C10-4E24-B94A-D50BB04A07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0F7E-67BA-4C7C-AF63-8FF801E2C9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C6DD-A3CC-4FBE-946C-BF5BED7404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5014-D3B8-439B-AEAD-12CC1D5A8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D83A-0D33-4F4B-A9FB-E0FE8D9779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AC9E-F37B-408E-9025-83CCF9B8E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0625-C013-4D44-B1F4-9B3E600C99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6650-B2F2-420F-A066-637FB7F500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63B7-2855-4449-BB19-3A795C625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9861-734E-4DC0-A35B-54F3A0D8E1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BCD8-FB20-4417-96D0-9DBBDF53143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A2E7-DC94-4B88-9AC8-37E9C05836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9164-2DCE-4A49-A727-F7D8C89F532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976B-86A3-4EAA-AE3A-22D3E6FE267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0E38-4041-4AC7-A608-DE1CB24874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5126-1193-4968-89BD-4FDD531BA9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F29B-1AF9-4E03-B69C-60F8DCBF05D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6FE7-54EF-4558-BFAC-AFF309DDCA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1C3D-9B93-4F68-BC65-DF2078FD4A7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8E3E-8DC9-43F9-93CB-446B028198C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896C-4AD4-40B0-A215-21189BF3A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EF26-6003-45EE-BB5D-DAB875463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09B2-7360-4776-9DAA-D0A7724FB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E19E-797A-43E1-B187-E9F9EE667B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359A-A0AB-473E-B6F1-B538BE51C4F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7ADE-5A28-4056-84B4-ECD2F03928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AF53-06CC-4EB1-9F8D-E3C4C05AD3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27FE-190B-40B3-81A6-E8D8C4449F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7B99-3C1F-487B-8FE8-8FA5BFD712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D848-067C-45BD-8C10-82579136CE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DC5B-7751-4B51-99E2-42BDE09CE9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4962-AFC5-4400-B324-E4A42A09B4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6873-F699-417B-BD88-DAF7AD4CC3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4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5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1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6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7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8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1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2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1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3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8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9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0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3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4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5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0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5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2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3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4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9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5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6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7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3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4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5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RomaK</cp:lastModifiedBy>
  <dcterms:modified xsi:type="dcterms:W3CDTF">2015-09-04T09:32:36Z</dcterms:modified>
  <cp:revision>7</cp:revision>
  <dc:subject/>
  <dc:title>Presidents of the Phillipines</dc:title>
</cp:coreProperties>
</file>